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15200" cy="100584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0D7-B452-4D05-BF4A-18AC5C13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9360" y="893880"/>
            <a:ext cx="6216480" cy="1676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49360" y="2905200"/>
            <a:ext cx="6216480" cy="2878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9360" y="6058080"/>
            <a:ext cx="6216480" cy="2878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EB85-F8FC-4CF8-81D1-0B8430DB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9360" y="893880"/>
            <a:ext cx="6216480" cy="1676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9360" y="2905200"/>
            <a:ext cx="3033360" cy="2878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34640" y="2905200"/>
            <a:ext cx="3033360" cy="2878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9360" y="6058080"/>
            <a:ext cx="3033360" cy="2878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734640" y="6058080"/>
            <a:ext cx="3033360" cy="2878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9279-7400-4B11-8AEE-EDA7B6F5C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9360" y="893880"/>
            <a:ext cx="6216480" cy="1676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49360" y="2905200"/>
            <a:ext cx="2001600" cy="2878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51400" y="2905200"/>
            <a:ext cx="2001600" cy="2878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3440" y="2905200"/>
            <a:ext cx="2001600" cy="2878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9360" y="6058080"/>
            <a:ext cx="2001600" cy="2878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651400" y="6058080"/>
            <a:ext cx="2001600" cy="2878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3440" y="6058080"/>
            <a:ext cx="2001600" cy="2878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068-0620-4471-AB06-6052AD39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9360" y="893880"/>
            <a:ext cx="6216480" cy="1676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49360" y="2905200"/>
            <a:ext cx="621648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34D8-6ED6-4DCB-99FD-4D96A54D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9360" y="893880"/>
            <a:ext cx="6216480" cy="1676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9360" y="2905200"/>
            <a:ext cx="6216480" cy="6035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2A10-46BA-48E2-9ABE-650A939E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9360" y="893880"/>
            <a:ext cx="6216480" cy="1676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49360" y="2905200"/>
            <a:ext cx="3033360" cy="6035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734640" y="2905200"/>
            <a:ext cx="3033360" cy="6035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1BC-BBFF-48E6-9F4B-50FECC67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9360" y="893880"/>
            <a:ext cx="6216480" cy="1676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3D1-3210-40C0-B2B5-CC76ABE4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49360" y="893880"/>
            <a:ext cx="621648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3D1-B255-4DCF-81F2-57B7DDE0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9360" y="893880"/>
            <a:ext cx="6216480" cy="1676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9360" y="2905200"/>
            <a:ext cx="3033360" cy="2878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34640" y="2905200"/>
            <a:ext cx="3033360" cy="6035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9360" y="6058080"/>
            <a:ext cx="3033360" cy="2878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30D-6AE3-4644-BA6A-137BDFE5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9360" y="893880"/>
            <a:ext cx="6216480" cy="1676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49360" y="2905200"/>
            <a:ext cx="3033360" cy="6035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734640" y="2905200"/>
            <a:ext cx="3033360" cy="2878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734640" y="6058080"/>
            <a:ext cx="3033360" cy="2878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8FF0-37A4-4FD5-A09C-1CB93B8A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9360" y="893880"/>
            <a:ext cx="6216480" cy="1676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49360" y="2905200"/>
            <a:ext cx="3033360" cy="2878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734640" y="2905200"/>
            <a:ext cx="3033360" cy="2878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9360" y="6058080"/>
            <a:ext cx="6216480" cy="2878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05F-3FCA-4A7C-968B-632F021F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893880"/>
            <a:ext cx="6216480" cy="1676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905200"/>
            <a:ext cx="6216480" cy="6035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06400" indent="-3096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24912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36640" indent="-2476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33440" indent="-2473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33440" indent="-2473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33440" indent="-24732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000" y="9164160"/>
            <a:ext cx="1523880" cy="66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s-MX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9164160"/>
            <a:ext cx="2317680" cy="66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s-MX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9164160"/>
            <a:ext cx="1523880" cy="66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s-MX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fld id="{C52A5F33-8F23-4981-B88D-8B11F6432D02}" type="slidenum">
              <a:rPr b="0" lang="es-MX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219320" y="3352680"/>
            <a:ext cx="4876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82560" y="2522520"/>
            <a:ext cx="5732640" cy="7549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s-MX" sz="4300" spc="-1" strike="noStrike">
                <a:solidFill>
                  <a:srgbClr val="0066cc"/>
                </a:solidFill>
                <a:latin typeface="Arial"/>
              </a:rPr>
              <a:t>ProG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98520" y="7583400"/>
            <a:ext cx="491508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300" spc="-1" strike="noStrike">
                <a:solidFill>
                  <a:srgbClr val="0066cc"/>
                </a:solidFill>
                <a:latin typeface="Arial"/>
              </a:rPr>
              <a:t>PIFI 3.1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8520" y="9226440"/>
            <a:ext cx="51166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Septiembre 27 del 200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-3706560" y="5376600"/>
            <a:ext cx="8550360" cy="81288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315200" cy="3348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34800"/>
            <a:ext cx="7315200" cy="33516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73200"/>
            <a:ext cx="7315200" cy="668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0033cc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41360"/>
            <a:ext cx="7315200" cy="2509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520" y="657360"/>
            <a:ext cx="7234200" cy="556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Universidad Autónoma de Ciudad Juáre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8440" y="1508040"/>
            <a:ext cx="1137960" cy="8131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c0c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727440" y="4476600"/>
            <a:ext cx="1544760" cy="314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657600" y="5776920"/>
            <a:ext cx="752400" cy="43956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2874960" y="4791240"/>
            <a:ext cx="2933640" cy="2231640"/>
            <a:chOff x="2874960" y="4791240"/>
            <a:chExt cx="2933640" cy="2231640"/>
          </a:xfrm>
        </p:grpSpPr>
        <p:sp>
          <p:nvSpPr>
            <p:cNvPr id="55" name=""/>
            <p:cNvSpPr/>
            <p:nvPr/>
          </p:nvSpPr>
          <p:spPr>
            <a:xfrm>
              <a:off x="3485520" y="4791240"/>
              <a:ext cx="2037600" cy="4467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13320" y="4912200"/>
              <a:ext cx="1792440" cy="2437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48960" y="4952880"/>
              <a:ext cx="81360" cy="817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10520" y="5029560"/>
              <a:ext cx="80280" cy="813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71000" y="4952880"/>
              <a:ext cx="81360" cy="817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32560" y="5029560"/>
              <a:ext cx="81360" cy="813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4200" y="4952880"/>
              <a:ext cx="80280" cy="817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64680" y="5029560"/>
              <a:ext cx="81360" cy="813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25880" y="4952880"/>
              <a:ext cx="81360" cy="817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86720" y="5029560"/>
              <a:ext cx="81360" cy="813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58360" y="4952880"/>
              <a:ext cx="81360" cy="817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19560" y="5029560"/>
              <a:ext cx="81360" cy="813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80040" y="4952880"/>
              <a:ext cx="81360" cy="817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41600" y="5029560"/>
              <a:ext cx="81360" cy="813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13240" y="4952880"/>
              <a:ext cx="81360" cy="817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73720" y="5029560"/>
              <a:ext cx="81360" cy="813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35280" y="4952880"/>
              <a:ext cx="81360" cy="817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96840" y="5029560"/>
              <a:ext cx="80640" cy="813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62720" y="4952880"/>
              <a:ext cx="81360" cy="817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23200" y="5029560"/>
              <a:ext cx="81360" cy="813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84760" y="4952880"/>
              <a:ext cx="81360" cy="817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46320" y="5029560"/>
              <a:ext cx="80280" cy="813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16880" y="4952880"/>
              <a:ext cx="81360" cy="817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78440" y="5029560"/>
              <a:ext cx="81360" cy="813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40000" y="4952880"/>
              <a:ext cx="80280" cy="817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00480" y="5029560"/>
              <a:ext cx="81360" cy="813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71760" y="4952880"/>
              <a:ext cx="81360" cy="817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33320" y="5029560"/>
              <a:ext cx="80640" cy="813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3800" y="4952880"/>
              <a:ext cx="81360" cy="817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85520" y="5238000"/>
              <a:ext cx="1711800" cy="202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52520" y="5440680"/>
              <a:ext cx="244800" cy="11761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93040" y="6617160"/>
              <a:ext cx="1304280" cy="203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74960" y="6820200"/>
              <a:ext cx="2933640" cy="202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26720" y="5440680"/>
              <a:ext cx="325800" cy="11761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26720" y="5724360"/>
              <a:ext cx="32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26720" y="6018840"/>
              <a:ext cx="32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26720" y="6333480"/>
              <a:ext cx="32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97680" y="5238000"/>
              <a:ext cx="325800" cy="202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97680" y="5440680"/>
              <a:ext cx="203400" cy="5670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52520" y="5440680"/>
              <a:ext cx="229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86280" y="5440680"/>
              <a:ext cx="81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52520" y="6617160"/>
              <a:ext cx="229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6280" y="6617160"/>
              <a:ext cx="81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19:02:31Z</dcterms:created>
  <dc:creator>ampudia</dc:creator>
  <dc:description/>
  <dc:language>en-US</dc:language>
  <cp:lastModifiedBy>uacj</cp:lastModifiedBy>
  <dcterms:modified xsi:type="dcterms:W3CDTF">2004-09-25T20:40:1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7248750</vt:r8>
  </property>
  <property fmtid="{D5CDD505-2E9C-101B-9397-08002B2CF9AE}" pid="3" name="_AuthorEmail">
    <vt:lpwstr>ajurado@uacj.mx</vt:lpwstr>
  </property>
  <property fmtid="{D5CDD505-2E9C-101B-9397-08002B2CF9AE}" pid="4" name="_AuthorEmailDisplayName">
    <vt:lpwstr>Ana Goreti Jurado Herrera</vt:lpwstr>
  </property>
  <property fmtid="{D5CDD505-2E9C-101B-9397-08002B2CF9AE}" pid="5" name="_EmailSubject">
    <vt:lpwstr>PORTADAS PRODES</vt:lpwstr>
  </property>
  <property fmtid="{D5CDD505-2E9C-101B-9397-08002B2CF9AE}" pid="6" name="_ReviewingToolsShownOnce">
    <vt:lpwstr/>
  </property>
</Properties>
</file>