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F94A-6793-4299-973C-CFCDCDC3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C2EA-372B-4655-B2AE-BA13D869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B6B9-C7CF-49FE-A361-5A5970C3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56F8-3762-44F0-81B2-BA25C11A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4765-0B63-41A7-B938-DC533230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006-A9C8-4740-B004-39EB71C3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C64-057F-4C77-8373-FCB4FF8C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CFA7-F729-49AE-AF12-6E8E0FDA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4BA-477C-49A4-AF49-5A50CB3D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D76-AB90-44E4-8C8D-226265FA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E91-5CEF-4E62-BAB3-44E801EE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AF24-F8C7-4E15-B310-DA52948A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226A-A64E-4E1E-8FB0-42E54C655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228600"/>
            <a:ext cx="3886200" cy="304920"/>
          </a:xfrm>
          <a:prstGeom prst="rect">
            <a:avLst/>
          </a:pr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sgrados de la UAC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609480"/>
            <a:ext cx="21337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F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1676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 Ref"/>
              </a:rPr>
              <a:t>Prio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16765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24160" y="1676520"/>
            <a:ext cx="4478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38560" y="1676520"/>
            <a:ext cx="4478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95760" y="1676520"/>
            <a:ext cx="4478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81360" y="1676520"/>
            <a:ext cx="4478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220968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 Ref"/>
              </a:rPr>
              <a:t>1.-  Maestría en Ciencias Soci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676520"/>
            <a:ext cx="0" cy="67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1676520"/>
            <a:ext cx="0" cy="67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676520"/>
            <a:ext cx="0" cy="67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1676520"/>
            <a:ext cx="0" cy="67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1676520"/>
            <a:ext cx="0" cy="67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676520"/>
            <a:ext cx="0" cy="67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1676520"/>
            <a:ext cx="0" cy="67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269712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 Ref"/>
              </a:rPr>
              <a:t>2.- Maestría en Ingeniería Ambiental y Ecosiste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2004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 Ref"/>
              </a:rPr>
              <a:t>3.- Maestría en Edu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37339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 Ref"/>
              </a:rPr>
              <a:t>5.- Maestría en Ciencias Económ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47847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 Ref"/>
              </a:rPr>
              <a:t>6.- Maestría en Planificación y Desarrollo Urb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74674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 Ref"/>
              </a:rPr>
              <a:t>11.- Maestría en Administ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533412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 Ref"/>
              </a:rPr>
              <a:t>7.- Maestría en Salud Púb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851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 Ref"/>
              </a:rPr>
              <a:t>8.- Maestría en Matemática Educat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 Ref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Georgia Ref"/>
              </a:rPr>
              <a:t>9.-Especialidad en Endodo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93432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 Ref"/>
              </a:rPr>
              <a:t>10.- Especialidad en Prótesis Bucal Fija y Removi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800100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 Ref"/>
              </a:rPr>
              <a:t>12.- Maestría en Cultura e Investigación Liter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838188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2057400"/>
            <a:ext cx="4572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2590920"/>
            <a:ext cx="9144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124080"/>
            <a:ext cx="9144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3657600"/>
            <a:ext cx="13716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191120"/>
            <a:ext cx="13716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4724280"/>
            <a:ext cx="13716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5257800"/>
            <a:ext cx="13716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5791320"/>
            <a:ext cx="18288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d5dd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6324480"/>
            <a:ext cx="18288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d5dd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6858000"/>
            <a:ext cx="18288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d5dd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7391520"/>
            <a:ext cx="18288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d5dd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7924680"/>
            <a:ext cx="18288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d5dd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1676520"/>
            <a:ext cx="8380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-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81680" y="1676520"/>
            <a:ext cx="0" cy="67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784872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731520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678168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624852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571500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518148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64832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411480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358128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304812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51460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20574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25909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3124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657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4724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7467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52578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57913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64008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69343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79246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66960" y="1676520"/>
            <a:ext cx="4478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143000"/>
            <a:ext cx="2666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ño en que se incorporarán 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drón Nacional de Posgr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1143000"/>
            <a:ext cx="12952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 y Añ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er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20574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25909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31240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6576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74674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52578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57913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64008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69343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79246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4297320"/>
            <a:ext cx="335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 Ref"/>
              </a:rPr>
              <a:t>4.- Especialidad  en Ortodo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4191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41911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380880"/>
            <a:ext cx="3886200" cy="533520"/>
          </a:xfrm>
          <a:prstGeom prst="rect">
            <a:avLst/>
          </a:pr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sgrados de la UAC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1752480"/>
            <a:ext cx="17528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914400"/>
            <a:ext cx="175284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ño en que 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orporarán 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drón Nac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 Posgr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1832040"/>
          <a:ext cx="4572000" cy="6473880"/>
        </p:xfrm>
        <a:graphic>
          <a:graphicData uri="http://schemas.openxmlformats.org/drawingml/2006/table">
            <a:tbl>
              <a:tblPr/>
              <a:tblGrid>
                <a:gridCol w="3733920"/>
                <a:gridCol w="838080"/>
              </a:tblGrid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l Posgr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estría en Salud en el Trabaj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estría en sistemas de Salu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dad en Anestesiologí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dad en Ginecología y Obstetri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dad en Medicina Inter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dad en Cirugía 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dad en Pediatría Med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dad en Medicina Famili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dad en Periodon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dad en Odontopediatrí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B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dad en Cirugía Maxilofac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estría en Derecho Empresa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estría en Procesos de Manufac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zación Indust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estría en Ar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estría Interdisciplina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estría en Ciencias Computacio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estría en Producción Anim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4952880" y="2057400"/>
            <a:ext cx="1752840" cy="624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73915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70866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67816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64771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60958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5715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54100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51055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7242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43434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40384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7339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3526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30481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2743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23623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8610480"/>
            <a:ext cx="1828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Posgrado en Proyec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77724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81532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8610480"/>
            <a:ext cx="15228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7010280"/>
            <a:ext cx="15228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73915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7696080"/>
            <a:ext cx="15228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29000" y="80773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8839080"/>
            <a:ext cx="15228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6324480"/>
            <a:ext cx="15228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6705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8839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estructuración Curricular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18:16:28Z</dcterms:created>
  <dc:creator>Absalón Uruchurtu</dc:creator>
  <dc:description/>
  <dc:language>en-US</dc:language>
  <cp:lastModifiedBy>Absalón Uruchurtu</cp:lastModifiedBy>
  <dcterms:modified xsi:type="dcterms:W3CDTF">2002-04-15T17:35:58Z</dcterms:modified>
  <cp:revision>25</cp:revision>
  <dc:subject/>
  <dc:title>Slide 1</dc:title>
</cp:coreProperties>
</file>