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470-BB8A-4922-A56F-0869D991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7DC-F051-4FDB-B47A-E9C10A8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146-8160-478E-85FB-44C93573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041-5274-48D9-9538-30374CAF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FF7-B375-46F1-A03D-6F4A8D1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F8A-0789-4347-B83E-CC911F55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CD9-2A34-45B8-8E0D-C8566ED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CE6-5258-4B86-B708-B47DA77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EB8-FE07-490B-846D-06431259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054-FB5A-4B21-A11B-973446C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14E-07F0-4508-9E36-1E1CAA4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B18-AEC5-41A8-ABBC-9FA74657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578-9516-4FD2-A0B7-A1A7FE5A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533520"/>
            <a:ext cx="4190760" cy="30456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dad Autónoma de Cd. Juá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00" y="1143000"/>
            <a:ext cx="175248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encias Soc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Administ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2" idx="0"/>
            <a:endCxn id="44" idx="0"/>
          </p:cNvCxnSpPr>
          <p:nvPr/>
        </p:nvCxnSpPr>
        <p:spPr>
          <a:xfrm rot="16200000">
            <a:off x="4516200" y="-2345040"/>
            <a:ext cx="360" cy="69760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 flipV="1">
            <a:off x="5715000" y="99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936960"/>
            <a:ext cx="167652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Planificación y Desarrollo Urb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95680" y="5922000"/>
            <a:ext cx="10670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ud en el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177720" y="5921280"/>
            <a:ext cx="1068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stemas de Sal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264400" y="5998320"/>
            <a:ext cx="106704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ud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33408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stesi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121320" y="58456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necología y Obstetr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1992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ina Inte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00224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rugía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136260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diatría Mé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74384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ina Famili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3"/>
            <a:endCxn id="56" idx="3"/>
          </p:cNvCxnSpPr>
          <p:nvPr/>
        </p:nvCxnSpPr>
        <p:spPr>
          <a:xfrm rot="16200000">
            <a:off x="1314360" y="4395960"/>
            <a:ext cx="360" cy="20786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 rot="16200000">
            <a:off x="362808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eriodo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029840" y="592164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dontopedia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4487040" y="58456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irugía Maxilof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4972680" y="5921640"/>
            <a:ext cx="121932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odo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5734800" y="5845680"/>
            <a:ext cx="121932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ótesis Bucal Fija y Remov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6520" y="513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03720" y="513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560920" y="513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8" idx="3"/>
            <a:endCxn id="62" idx="3"/>
          </p:cNvCxnSpPr>
          <p:nvPr/>
        </p:nvCxnSpPr>
        <p:spPr>
          <a:xfrm rot="16200000">
            <a:off x="5290920" y="4381920"/>
            <a:ext cx="360" cy="210672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 flipV="1">
            <a:off x="106668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240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60320" y="512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217520" y="512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598760" y="512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79640" y="512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9" idx="1"/>
            <a:endCxn id="50" idx="1"/>
          </p:cNvCxnSpPr>
          <p:nvPr/>
        </p:nvCxnSpPr>
        <p:spPr>
          <a:xfrm rot="5400000">
            <a:off x="3254400" y="5130000"/>
            <a:ext cx="1800" cy="914760"/>
          </a:xfrm>
          <a:prstGeom prst="bentConnector3">
            <a:avLst>
              <a:gd name="adj1" fmla="val -1607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" name=""/>
          <p:cNvSpPr/>
          <p:nvPr/>
        </p:nvSpPr>
        <p:spPr>
          <a:xfrm>
            <a:off x="2666880" y="327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52480" y="48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9396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5116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6134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8488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1804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77240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059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4" idx="3"/>
            <a:endCxn id="85" idx="1"/>
          </p:cNvCxnSpPr>
          <p:nvPr/>
        </p:nvCxnSpPr>
        <p:spPr>
          <a:xfrm flipV="1" rot="16200000">
            <a:off x="7731000" y="3340080"/>
            <a:ext cx="227520" cy="102240"/>
          </a:xfrm>
          <a:prstGeom prst="bentConnector3">
            <a:avLst>
              <a:gd name="adj1" fmla="val 500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7" idx="3"/>
            <a:endCxn id="88" idx="1"/>
          </p:cNvCxnSpPr>
          <p:nvPr/>
        </p:nvCxnSpPr>
        <p:spPr>
          <a:xfrm flipV="1" rot="16200000">
            <a:off x="8759880" y="3326040"/>
            <a:ext cx="227520" cy="127440"/>
          </a:xfrm>
          <a:prstGeom prst="bentConnector3">
            <a:avLst>
              <a:gd name="adj1" fmla="val 5007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8380440" y="3276720"/>
            <a:ext cx="14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84880" y="114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9080" y="1143000"/>
            <a:ext cx="175248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eniería y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3760" y="327672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6675480" y="4601520"/>
            <a:ext cx="24397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Derecho Empresa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7716240" y="4601160"/>
            <a:ext cx="244152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031160" y="4600440"/>
            <a:ext cx="244008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Ciencias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7335000" y="4601160"/>
            <a:ext cx="244152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Ciencias de 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838120" y="4602960"/>
            <a:ext cx="244152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Edu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3"/>
            <a:endCxn id="98" idx="3"/>
          </p:cNvCxnSpPr>
          <p:nvPr/>
        </p:nvCxnSpPr>
        <p:spPr>
          <a:xfrm rot="16200000">
            <a:off x="7273800" y="3290400"/>
            <a:ext cx="360" cy="430200"/>
          </a:xfrm>
          <a:prstGeom prst="bentConnector3">
            <a:avLst>
              <a:gd name="adj1" fmla="val -64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4" idx="3"/>
            <a:endCxn id="95" idx="3"/>
          </p:cNvCxnSpPr>
          <p:nvPr/>
        </p:nvCxnSpPr>
        <p:spPr>
          <a:xfrm rot="16200000">
            <a:off x="8403480" y="3351240"/>
            <a:ext cx="360" cy="30492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 rot="16200000">
            <a:off x="6267960" y="4526640"/>
            <a:ext cx="244152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Cultura e Investigación Lite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5353560" y="5921640"/>
            <a:ext cx="121932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todo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652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0372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56092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4216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8436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1752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9876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79640" y="5359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040" y="4978440"/>
            <a:ext cx="144792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ecialidades Ciencias Me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52280"/>
            <a:ext cx="58672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bicación de los Posgrados por DES y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5007240" y="3915360"/>
            <a:ext cx="152424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Ambiental y Eco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953160" y="3801240"/>
            <a:ext cx="129564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Mate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48120" y="99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1143000"/>
            <a:ext cx="175284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encias Bioméd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43000"/>
            <a:ext cx="175284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quitectura, Dis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1952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952880"/>
            <a:ext cx="144756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s en  Ciencias Me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473720" y="3915360"/>
            <a:ext cx="1524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Procesos de Manufa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819760" y="3915360"/>
            <a:ext cx="1524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Ciencias Comput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388120" y="3991680"/>
            <a:ext cx="1524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r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00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0560" y="4978440"/>
            <a:ext cx="144756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ecialidades de Estomatolog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191040" y="3801240"/>
            <a:ext cx="12956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Producción 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76720" y="535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2763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001000" y="1752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17520" y="2393640"/>
            <a:ext cx="13762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Dis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874080" y="2392920"/>
            <a:ext cx="1374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3"/>
            <a:endCxn id="136" idx="3"/>
          </p:cNvCxnSpPr>
          <p:nvPr/>
        </p:nvCxnSpPr>
        <p:spPr>
          <a:xfrm flipH="1" rot="16200000">
            <a:off x="993960" y="1337760"/>
            <a:ext cx="2520" cy="1132560"/>
          </a:xfrm>
          <a:prstGeom prst="bentConnector3">
            <a:avLst>
              <a:gd name="adj1" fmla="val -10733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 rot="16200000">
            <a:off x="3904920" y="2313000"/>
            <a:ext cx="1376640" cy="550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Naturales y Exac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4565520" y="2315520"/>
            <a:ext cx="13762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Ingeniería Industrial y Manufa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201280" y="2313360"/>
            <a:ext cx="1374840" cy="550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Ingeniería Civil y Ambi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9" idx="3"/>
            <a:endCxn id="143" idx="3"/>
          </p:cNvCxnSpPr>
          <p:nvPr/>
        </p:nvCxnSpPr>
        <p:spPr>
          <a:xfrm flipH="1" rot="16200000">
            <a:off x="5543280" y="950040"/>
            <a:ext cx="5400" cy="1905480"/>
          </a:xfrm>
          <a:prstGeom prst="bentConnector3">
            <a:avLst>
              <a:gd name="adj1" fmla="val -46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 rot="16200000">
            <a:off x="5811840" y="2316240"/>
            <a:ext cx="13730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Ingeniería Eléctrica y Compu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588360" y="2387160"/>
            <a:ext cx="137628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Humanid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105680" y="2390400"/>
            <a:ext cx="13762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Jurí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7589160" y="2387880"/>
            <a:ext cx="137484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3"/>
            <a:endCxn id="88" idx="3"/>
          </p:cNvCxnSpPr>
          <p:nvPr/>
        </p:nvCxnSpPr>
        <p:spPr>
          <a:xfrm flipH="1" rot="16200000">
            <a:off x="8040960" y="1133640"/>
            <a:ext cx="5040" cy="1533960"/>
          </a:xfrm>
          <a:prstGeom prst="bentConnector3">
            <a:avLst>
              <a:gd name="adj1" fmla="val -495384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 rot="16200000">
            <a:off x="8123040" y="2314080"/>
            <a:ext cx="1373400" cy="550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Administr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258480" y="2391840"/>
            <a:ext cx="137628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Arquite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568160" y="2388960"/>
            <a:ext cx="13766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Bás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2599560" y="2391120"/>
            <a:ext cx="137484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Estomat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50" idx="3"/>
          </p:cNvCxnSpPr>
          <p:nvPr/>
        </p:nvCxnSpPr>
        <p:spPr>
          <a:xfrm flipH="1" rot="16200000">
            <a:off x="3042360" y="1114200"/>
            <a:ext cx="3240" cy="1575000"/>
          </a:xfrm>
          <a:prstGeom prst="bentConnector3">
            <a:avLst>
              <a:gd name="adj1" fmla="val -80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 rot="16200000">
            <a:off x="3144600" y="2390400"/>
            <a:ext cx="1373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Pecu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043360" y="2391840"/>
            <a:ext cx="137628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Ciencias Mé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470480"/>
            <a:ext cx="16765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Interdisciplin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47" idx="1"/>
            <a:endCxn id="153" idx="1"/>
          </p:cNvCxnSpPr>
          <p:nvPr/>
        </p:nvCxnSpPr>
        <p:spPr>
          <a:xfrm rot="10800000">
            <a:off x="685800" y="4135680"/>
            <a:ext cx="360" cy="45792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 flipH="1">
            <a:off x="457200" y="4343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" y="3276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505320"/>
            <a:ext cx="16765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ía en 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15:06Z</dcterms:created>
  <dc:creator>Absalón Uruchurtu</dc:creator>
  <dc:description/>
  <dc:language>en-US</dc:language>
  <cp:lastModifiedBy>Absalón Uruchurtu</cp:lastModifiedBy>
  <dcterms:modified xsi:type="dcterms:W3CDTF">2002-04-15T17:37:53Z</dcterms:modified>
  <cp:revision>13</cp:revision>
  <dc:subject/>
  <dc:title>Slide 1</dc:title>
</cp:coreProperties>
</file>